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8BFD-56A0-46E5-A5A8-C13FC960E5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Human Genome Proj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the Human Genome Projec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govt. project coordinated by the Department of Energy and the National Institutes of Health, launched in 1986 by Charles DeLisi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inition: GENOME – the whole hereditary information of an organism that is encoded in the DNA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ms of the projec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to identify the approximate 100,000 genes in the human DN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determine the sequences of the 3 billion bases that make up human DN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store this information in databas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develop tools for data analys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address the ethical, legal, and social issues that arise from genome research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Human Genome Proj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S. govt. project coordinated by the Department of Energy and the National Institutes of Health, launched in 1986 by Charles DeLisi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GENOME – the whole hereditary information of an organism that is encoded in the D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s of the projec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identify the approximate 100,000 genes in the human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termine the sequences of the 3 billion bases that make up human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ore this information in data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velop tools for data ana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ddress the ethical, legal, and social issues that arise from genome resear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se genome is being sequenc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reference genome is a composite genome from several different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rated from 10-20 primary samples taken from numerous anonymous donors across racial and ethnic group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se genome is being sequen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reference genome is a composite genome from several different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d from 10-20 primary samples taken from numerous anonymous donors across racial and ethnic grou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nefits of Human Genome Project resear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improvements in medic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microbial genome research for fuel and environmental cleanup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DNA forensic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improved agriculture and livestoc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better understanding of evolution and human migr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more accurate risk assess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Human Genome Project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mprovements in medic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icrobial genome research for fuel and environmental clean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NA forens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mproved agriculture and livest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etter understanding of evolution and human mig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re accurate risk assess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is each area benefited specifically by the Human Genome Projec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rovements in medicine: improved diagnosis of disea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bial research: new energy sources, bio fuel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NA forensics: identifying potential suspects at a crime sce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riculture: more nutritious produ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olution and human migration: study migration of different population groups based on female genetic inheritan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Risk assessment: reduce the likelihood of heritable mut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each area benefited specifically by the Human Genome Proj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s in medicine: improved diagnosis of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bial research: new energy sources, bio fu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forensics: identifying potential suspects at a crime sc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e: more nutritious produ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 and human migration: study migration of different population groups based on female genetic inheri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isk assessment: reduce the likelihood of heritable mu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thical, legal and social implications of the Human Genome Proj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irness in the use of genetic inform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ivacy and confidential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ological impact and stigmatiz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tic tes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tive issu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ucation, standards, and quality contro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ercializ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eptual and philosophical implic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ical, legal and social implications of the 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 in the use of genetic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vacy and confidenti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impact and stigmat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t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, standards, and quality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ptual and philosophical impli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the implications of the Human Genome Project specifically to each of these are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questions to consid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irness and privacy: who should have access to your genetic inform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ological stigmatization: how does knowing your predisposition to disease affect an individua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tic testing: should screening be done when there is no treatment availabl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other issu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tive issues: use of genetic information in decision making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nical issues: implementation of standards and quality control measures in testing procedur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implications of the Human Genome Project specifically to each of these are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questions to consi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 and privacy: who should have access to your genetic infor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stigmatization: how does knowing your predisposition to disease affect an individu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testing: should screening be done when there is no treatment avail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ther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issues: use of genetic information in decision mak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 issues: implementation of standards and quality control measures in testing proced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D2DB-6ED1-47AE-93AB-28469ED35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6D77-768B-46A4-8FB6-083F2B19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A149-9863-40CF-8563-E4A246903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CD6F-36AF-487D-9706-A6805B201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7751-F56F-4BFC-A156-9EEED782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94F2-9C33-4D85-9D4F-04DB0DAC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6AB2-FF28-4C92-BDFC-71627B9B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3B1E-C589-4797-B86C-52B0C435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5CAD-23A9-44F0-BBE8-12EC7B04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B4DA-4CBF-476A-AA71-E25200F9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FF52-4A12-44ED-9900-9DCB17A9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2442-79B7-4D38-81C4-A18B256D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3A1D-0FFC-418A-A885-52879F486B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The Human Genome Pro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4" descr="human genoome project logo 2"/>
          <p:cNvPicPr/>
          <p:nvPr/>
        </p:nvPicPr>
        <p:blipFill>
          <a:blip r:embed="rId1"/>
          <a:stretch/>
        </p:blipFill>
        <p:spPr>
          <a:xfrm>
            <a:off x="3203640" y="3789360"/>
            <a:ext cx="2243160" cy="221760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is the Human Genome Proje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.S. govt. project coordinated by the Department of Energy and the National Institutes of Health, launched in 1986 by Charles DeLisi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Definition: GENOME – the whole hereditary information of an organism that is encoded in the DNA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ims of the projec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to identify the approximate 100,000 genes in the human D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the sequences of the 3 billion bases that make up human D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store this information in datab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develop tools for data analys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address the ethical, legal, and social issues that arise from genome research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9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ccff"/>
                </a:solidFill>
                <a:latin typeface="Arial"/>
              </a:rPr>
              <a:t>Whose genome is being sequenc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70716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rst reference genome is a composite genome from several different peo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generated from 10-20 primary samples taken from numerous anonymous donors across racial and ethnic grou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" name="Object 5"/>
          <p:cNvGraphicFramePr/>
          <p:nvPr/>
        </p:nvGraphicFramePr>
        <p:xfrm>
          <a:off x="2484360" y="3213000"/>
          <a:ext cx="5767560" cy="319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3213000"/>
                    <a:ext cx="5767560" cy="31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ccff"/>
                </a:solidFill>
                <a:latin typeface="Arial"/>
              </a:rPr>
              <a:t>Benefits of Human Genome Project resear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improvements in medic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- microbial genome research for fuel and environmental cleanu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- DNA forens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- improved agriculture and livestoc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- better understanding of evolution and human migr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- more accurate risk assess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" descr="genome3"/>
          <p:cNvPicPr/>
          <p:nvPr/>
        </p:nvPicPr>
        <p:blipFill>
          <a:blip r:embed="rId1"/>
          <a:stretch/>
        </p:blipFill>
        <p:spPr>
          <a:xfrm>
            <a:off x="5076720" y="1557360"/>
            <a:ext cx="3581640" cy="46800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How is each area benefited specifically by the Human Genome Projec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mprovements in medicine: improved diagnosis of dise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Microbial research: new energy sources, bio fue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NA forensics: identifying potential suspects at a crime sce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Agriculture: more nutritious produ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olution and human migration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y migration of different population groups based on female genetic inherita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- Risk assessment: </a:t>
            </a: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reduce the likelihood of heritable muta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5" descr="detectives"/>
          <p:cNvPicPr/>
          <p:nvPr/>
        </p:nvPicPr>
        <p:blipFill>
          <a:blip r:embed="rId1"/>
          <a:stretch/>
        </p:blipFill>
        <p:spPr>
          <a:xfrm>
            <a:off x="4788000" y="2133720"/>
            <a:ext cx="4038480" cy="293508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ccff"/>
                </a:solidFill>
                <a:latin typeface="Arial"/>
              </a:rPr>
              <a:t>Ethical, legal and social implications of the Human Genome Proje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fairness in the use of genetic inform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vacy and confidential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psychological impact and stigmatiz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tic tes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reproductive issu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ducation, standards, and quality contr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commercializ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eptual and philosophical implic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5" descr="Genetics%202_tcm6-12673"/>
          <p:cNvPicPr/>
          <p:nvPr/>
        </p:nvPicPr>
        <p:blipFill>
          <a:blip r:embed="rId1"/>
          <a:stretch/>
        </p:blipFill>
        <p:spPr>
          <a:xfrm>
            <a:off x="4788000" y="1844640"/>
            <a:ext cx="4079880" cy="37450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What are the implications of the Human Genome Project specifically to each of these area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me questions to consid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irness and privacy: who should have access to your genetic informa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ccff"/>
                </a:solidFill>
                <a:latin typeface="Arial"/>
              </a:rPr>
              <a:t>Psychological stigmatization: </a:t>
            </a: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how does knowing your predisposition to disease affect an individu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netic testing: should screening be done when there is no treatment availabl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me other issu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ccff"/>
                </a:solidFill>
                <a:latin typeface="Arial"/>
              </a:rPr>
              <a:t>Reproductive issues: use of genetic information in decision making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linical issues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ementation of standards and quality control measures in testing procedure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3" name="Object 4"/>
          <p:cNvGraphicFramePr/>
          <p:nvPr/>
        </p:nvGraphicFramePr>
        <p:xfrm>
          <a:off x="6227640" y="1268280"/>
          <a:ext cx="2049480" cy="532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7640" y="1268280"/>
                    <a:ext cx="2049480" cy="53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9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9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9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9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9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9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11:27:32Z</dcterms:created>
  <dc:creator>Customer</dc:creator>
  <dc:description/>
  <dc:language>en-US</dc:language>
  <cp:lastModifiedBy>LEGION2</cp:lastModifiedBy>
  <dcterms:modified xsi:type="dcterms:W3CDTF">2016-01-12T12:48:26Z</dcterms:modified>
  <cp:revision>7</cp:revision>
  <dc:subject/>
  <dc:title>The Human Genome Project</dc:title>
</cp:coreProperties>
</file>